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D0393-8998-4593-A010-E0D2802F7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EE823-CF74-4313-920C-EB829F86A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C4A3C-E02C-458F-B39D-07B758E5C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5CF4-3F06-4F2E-B1EC-4E9C2C516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4EF1-4D3E-42EE-A801-525309976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258F0-A273-48AB-93D7-3755BE88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878CD-32AC-4B26-A692-BAE7833CC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E960-61AD-4059-85CD-80589FFC0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E806-ADE1-4829-B974-685B9701F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51200-8C12-4D2A-B62F-01BCA8AF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70DEF-FEE5-4ECD-A767-03BE15F7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54773-F1E2-4BF7-B67B-7FC6AD9BE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8F466-684D-4F42-9F84-D109FBBC28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j0309251" descr=""/>
          <p:cNvPicPr/>
          <p:nvPr/>
        </p:nvPicPr>
        <p:blipFill>
          <a:blip r:embed="rId1"/>
          <a:stretch/>
        </p:blipFill>
        <p:spPr>
          <a:xfrm>
            <a:off x="1219320" y="685800"/>
            <a:ext cx="6781680" cy="35812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45716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uilding the Pil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5334120"/>
            <a:ext cx="1752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0880" y="4724280"/>
            <a:ext cx="2362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096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Be organ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Deleg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Know what you want and who you want to oversee the project to see that it’s d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980720" y="1752120"/>
            <a:ext cx="53341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your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ild fraternal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out all you can about your members and their families to help you develop interesting programs that will keep your members returning to Lod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057040" y="198108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members to be creative and encourage th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llow up on the progres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lement the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5235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alize there is a need for both the traditional and non-traditional member in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 open to new ideas with regards to planning activities for the memb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905120" y="1981080"/>
            <a:ext cx="5410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ust because you did it that way in the past, may not be the way of the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’m not talking about the ritual-I’m talking about the leadership of the Master and offic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 such thing as bad luck, just poor plan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285640" y="1981080"/>
            <a:ext cx="533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leade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liste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rea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0000"/>
                </a:solidFill>
                <a:latin typeface="Times New Roman"/>
              </a:rPr>
              <a:t>follows throug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600200" y="1981080"/>
            <a:ext cx="6019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committees with an active chairman and have them give reports back to the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embers need to know what is going on in their Lodge and offer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lanning your year, you should remember what your role as Master should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attract, retain, and motivate your members to return to Lodge, participate  and promote membe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52480" y="198108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we are going to attract and keep the new member we must listen to what their concerns are and respond to make Lodge meetings an enjoyable and rewarding  experience for a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304920"/>
            <a:ext cx="8153280" cy="586728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133720" y="609120"/>
            <a:ext cx="487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Leadership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85800"/>
            <a:ext cx="1219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4760" y="1981080"/>
            <a:ext cx="5562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committees with a chairman and have them give reports to the Lodge. The members need to know what is going on in thei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980720" y="1981080"/>
            <a:ext cx="5410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 and your officers need to work and develop the new leaders in your Lodge if we are going to be successful in the futu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7000" cy="52704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736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study groups to learn ritual, lectures and char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 a degree team for each degree and l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sign a Past Master to each officer as a mentor and coa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950080" cy="7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en planing for the future remember the words of General George S. Pa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ood plan executed right now is far better than a perfect plan executed next week”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581280" y="4343400"/>
            <a:ext cx="1803600" cy="21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629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ability to motivate people to do what you ask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924680" y="685800"/>
            <a:ext cx="914400" cy="525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304920" y="685800"/>
            <a:ext cx="92052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o are the leader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04920" y="685800"/>
            <a:ext cx="920520" cy="52642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0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6172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ople like you and me who when asked will take charge and motivate people to do more than they think they can achiev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do people or plans fai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e have here is a failure to communica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You!  As Master of your Lodge have the responsibility to lead and motivate the members and officers of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odge Leadershi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4475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you are the Master and responsible for leadership and operation of your Lo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920520" cy="526392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7924680" y="685800"/>
            <a:ext cx="920880" cy="52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8T12:01:50Z</dcterms:created>
  <dc:creator>User's Name</dc:creator>
  <dc:description/>
  <dc:language>en-US</dc:language>
  <cp:lastModifiedBy>User's Name</cp:lastModifiedBy>
  <cp:lastPrinted>2002-06-21T20:00:09Z</cp:lastPrinted>
  <dcterms:modified xsi:type="dcterms:W3CDTF">2002-06-22T02:40:41Z</dcterms:modified>
  <cp:revision>11</cp:revision>
  <dc:subject/>
  <dc:title>Building the Pillars</dc:title>
</cp:coreProperties>
</file>