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94EB9-AECF-43AD-93E0-E4F9B9A9F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555D-3F03-4316-9F99-112CF95E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708D-DBFC-4647-8EDB-DFDC6A31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406F-F266-415B-880E-CCB2AE3B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DA19-47EE-4A11-808F-A0301624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2D8D-A51C-4929-9A2A-7208C403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EE0B-FD50-476B-8869-84EA0B10E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DC80-4F09-46D1-B3B9-DE3CF511A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FBB5-BA15-47C7-93FF-38864A8A6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2342-9FEE-4A06-AC73-018FC087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B699-55A1-4F9F-A8CC-53C272945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A701-D66A-458B-B321-E131EA87E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D12FE-8E6D-49B7-8CE1-0BAF37911E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cacf"/>
                </a:solidFill>
                <a:latin typeface="Arial"/>
              </a:rPr>
              <a:t>Grand Master’s Progr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2971440" y="3809880"/>
            <a:ext cx="57913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cacf"/>
                </a:solidFill>
                <a:latin typeface="Arial"/>
              </a:rPr>
              <a:t>Freemasonry: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cacf"/>
                </a:solidFill>
                <a:latin typeface="Arial"/>
              </a:rPr>
              <a:t>A Blueprint for Lif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9cacf"/>
                </a:solidFill>
                <a:latin typeface="Arial"/>
              </a:rPr>
              <a:t>2003-20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cacf"/>
                </a:solidFill>
                <a:latin typeface="Arial"/>
              </a:rPr>
              <a:t>Goals for Lodge Suc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Goal 1.  Ritual Profici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2.  Lodge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3.  Family Activ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4.  Youth Gro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5.  Masonic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6.  Charitable G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                        </a:t>
            </a:r>
            <a:r>
              <a:rPr b="0" lang="en-US" sz="2800" spc="-1" strike="noStrike">
                <a:solidFill>
                  <a:srgbClr val="89cacf"/>
                </a:solidFill>
                <a:latin typeface="Arial"/>
              </a:rPr>
              <a:t>7.  Community Particip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4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9cacf"/>
                </a:solidFill>
                <a:latin typeface="Arial"/>
              </a:rPr>
              <a:t>Grand Master’s A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cacf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89cacf"/>
                </a:solidFill>
                <a:latin typeface="Arial"/>
              </a:rPr>
              <a:t>Each Goal will be part of the Grand Master’s Award Progr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cac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cac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9cacf"/>
                </a:solidFill>
                <a:latin typeface="Arial"/>
              </a:rPr>
              <a:t>All Lodges are encouraged to strive and attain all of the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cac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cac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89cacf"/>
                </a:solidFill>
                <a:latin typeface="Arial"/>
              </a:rPr>
              <a:t>Masonic Districts also have Goa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768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768" fill="hold"/>
                                        <p:tgtEl>
                                          <p:spTgt spid="4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768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19T17:14:38Z</dcterms:created>
  <dc:creator>Steven J. Krekus</dc:creator>
  <dc:description/>
  <dc:language>en-US</dc:language>
  <cp:lastModifiedBy>Preferred Customer</cp:lastModifiedBy>
  <dcterms:modified xsi:type="dcterms:W3CDTF">2003-06-24T13:30:06Z</dcterms:modified>
  <cp:revision>7</cp:revision>
  <dc:subject/>
  <dc:title>Grand Masters Program</dc:title>
</cp:coreProperties>
</file>