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320D-1B3B-4603-9119-569B89953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17C-3F04-44F9-89D6-288289ECE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17C0B-9BAC-4073-B8F4-6372A9F3F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FF772-B0C5-4868-BF24-D647D6C26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BEB5E0-480F-4DC7-A217-A21A0D422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FDCD5-A8AB-4A2A-9599-AD9D47321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2249-740A-4585-AC78-C49F3A134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ACC92-8A3B-4398-A3ED-B401A17D7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98B6-5E4B-4D79-A36A-D348DCD1B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3092C-8CB6-421D-8A68-71751F897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600C4-0438-4E8F-88F6-7781E8249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29AB0-6F9D-4AEE-9AD7-9E7CA55D9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23F98-65D1-428D-9A59-C0503A017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E252F-AA47-49F6-93A8-B2D4C564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1A652-85C3-496F-8F3B-A24F511E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41AF-DAF9-4AFE-8204-9558FC721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0A874-AFC8-4009-84FC-CFD9E72A9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72F6-31FB-4310-9DD4-CD5EE693B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5287-AEE5-477D-BF5D-F47997E8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4AD75-ACC4-445F-AE12-AD8F71689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7F76-E080-4A04-8994-73727539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68E8E-02C5-437E-8119-A9D3D8B64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D65C8-22C4-44FD-A456-52B62FB3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182E0-FFDD-4BBE-8B40-A9930D707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8B7CA-D3E7-4800-A85C-25D692AFCEB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1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f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5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8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8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7c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10199"/>
                    </a:gs>
                    <a:gs pos="100000">
                      <a:srgbClr val="0000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0101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6a"/>
                    </a:gs>
                    <a:gs pos="100000">
                      <a:srgbClr val="0101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a"/>
                  </a:gs>
                  <a:gs pos="100000">
                    <a:srgbClr val="0101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0101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082160-7F25-47F5-BD59-22D061D99F1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4920" y="1920960"/>
            <a:ext cx="85341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ompetencies For Management In The 21</a:t>
            </a:r>
            <a:r>
              <a:rPr b="0" lang="en-US" sz="4400" spc="-1" strike="noStrike" baseline="30000">
                <a:solidFill>
                  <a:srgbClr val="ccffff"/>
                </a:solidFill>
                <a:latin typeface="Arial"/>
              </a:rPr>
              <a:t>st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Century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ffff"/>
                </a:solidFill>
                <a:latin typeface="Arial"/>
              </a:rPr>
              <a:t>Commit to Excellence</a:t>
            </a:r>
            <a:endParaRPr b="0" lang="en-US" sz="5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cus on Membership Nee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Leadership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ovide Direc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ead Courageous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Foster Team Wor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ach &amp; Develop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Self Management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monstrate Adaptabil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evelop Oneself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Thinking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Use Sound Judgm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Innova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2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Interpersonal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Display Organizational Savv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Manage Disagreem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alue Diversity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0"/>
            </a:gs>
            <a:gs pos="100000">
              <a:srgbClr val="0000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ffff"/>
                </a:solidFill>
                <a:latin typeface="Arial"/>
              </a:rPr>
              <a:t>Communication Factor</a:t>
            </a:r>
            <a:endParaRPr b="0" lang="en-US" sz="48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mmunicate Appropriate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Speak Effectively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isten to Oth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ccff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epare Written Communica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2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2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2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2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4:47:30Z</dcterms:created>
  <dc:creator>Preferred Customer</dc:creator>
  <dc:description/>
  <dc:language>en-US</dc:language>
  <cp:lastModifiedBy>Preferred Customer</cp:lastModifiedBy>
  <dcterms:modified xsi:type="dcterms:W3CDTF">2003-06-26T14:57:19Z</dcterms:modified>
  <cp:revision>2</cp:revision>
  <dc:subject/>
  <dc:title>Competencies For Management In The 21st Century</dc:title>
</cp:coreProperties>
</file>