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BBB6-F7B3-486A-B6B9-B457DA27B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333A-A122-4CF0-9797-980DF501D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9DED-EFC9-4C00-957E-816357383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0DEB-4A7B-4650-BF10-FF749CAD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ECFCA-E2C1-433D-91DD-3991A5956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AEC55-36D2-4F65-8918-5D4FF827E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AE1CD-68FE-453E-BAA2-F14EE1EC9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0C836-1F65-43FF-A546-E6C1CF839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4305-9403-46CA-B3FB-CF3751AF0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B1D9A-322E-4FD7-A804-F7651457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605FF-9EA3-4870-917F-11969504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2DE3-5A8C-4AC1-8C04-6531ABD54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BCFD5-6522-49E9-8497-93CB2559C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04E4F-683C-424B-B849-546EA69EF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55EB-B1F8-4A41-9AEE-4A06D2EF8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9F4EA-FF3E-4995-B124-79E9CFF9B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94B6A-6BDA-4604-9B01-0715B8266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EB7E-9AC0-4162-9541-B67980DD2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A8F3-7D9E-45F0-814A-DD4F360F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B87A-FA24-46D3-8EF5-6CDB6CFF0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18284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4F498-82CB-46D9-A571-EFD1DAC73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1F7A-8FB4-4871-BC3A-2E9182A18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BF925-4FDE-4FC5-A1B5-342AF065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BF62-631E-4EC2-95CE-664D58FAC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DF56-4649-47D2-8BE6-644D82772E50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1003320 w 9204120"/>
                <a:gd name="textAreaRight" fmla="*/ 8200800 w 9204120"/>
                <a:gd name="textAreaTop" fmla="*/ 49680 h 457200"/>
                <a:gd name="textAreaBottom" fmla="*/ 40752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11" y="21600"/>
                  </a:lnTo>
                  <a:lnTo>
                    <a:pt x="108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9800 w 9239400"/>
                <a:gd name="textAreaRight" fmla="*/ 8229600 w 9239400"/>
                <a:gd name="textAreaTop" fmla="*/ 50040 h 460440"/>
                <a:gd name="textAreaBottom" fmla="*/ 41040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500" y="21600"/>
                  </a:lnTo>
                  <a:lnTo>
                    <a:pt x="1100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F98D6-B4D9-4C33-A823-7FF6A34A41D4}" type="slidenum">
              <a:rPr b="0" lang="en-US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8" name="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135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SzPct val="110000"/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uties of the Lodge Offic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uties of all Officer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ake members feel welcom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vide Masonic education and learning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tivate and encourag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Remember!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Most men join the Craft looking for opportunities, satisfaction, and service as well as personal growth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If the customer doesn’t find what he wants here…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Times New Roman"/>
              </a:rPr>
              <a:t>He will go somewhere else!</a:t>
            </a:r>
            <a:endParaRPr b="0" lang="en-US" sz="4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uties of the Mast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520" y="1665360"/>
            <a:ext cx="3975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adership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ogram Planning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mitte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udget &amp; Financ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Ritual Proficiency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ecture Assignment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reside over Stated &amp; Special Meeting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0560" y="1665000"/>
            <a:ext cx="394956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ly w/ Grand Lodge Communica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Comply with Grand Lodge Rules &amp; Reg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odge Inspection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Masonic Funeral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Public Relation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Lodge Propert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Installation of Successor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uties of Senior Ward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Be familiar w/ Master’s Dut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rve in Master’s absenc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Know the business of the Lodg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derstand Committee Work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0560" y="16653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derstand Lodge Financ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derstand the Cod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Understand Lodge procedure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Times New Roman"/>
              </a:rPr>
              <a:t>Selection of Appointive Officer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uties of the Junior Warden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itualistic Du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rver in the Master’s and Senior Warden’s absenc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Know Opening, Closing &amp; Conferring of Degre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Assist Senior Warden in Special Function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tudy Grand Lodge Code &amp; Handbook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uties of Senior &amp; Junior Deacon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itualistic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ocia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uties of the Treasur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ceive &amp; deposit mon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ay bil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uties of Secretar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Virtually all of the Lodge’s operations not covered by the Treasure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uties of the Tyler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Provide equipment for Masonic Funeral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Hospitality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Examining Committe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Duties of Steward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Inspection of Candidates in Prep Room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itualistic Dut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Refreshment Committe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6T15:20:08Z</dcterms:created>
  <dc:creator>Chad Simpson</dc:creator>
  <dc:description/>
  <dc:language>en-US</dc:language>
  <cp:lastModifiedBy>Mark Bernardin</cp:lastModifiedBy>
  <dcterms:modified xsi:type="dcterms:W3CDTF">2003-06-30T14:08:27Z</dcterms:modified>
  <cp:revision>7</cp:revision>
  <dc:subject/>
  <dc:title>Duties of the Lodge Officers</dc:title>
</cp:coreProperties>
</file>