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9D808-69BC-4EFC-8804-051C99A8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A74A-C7A5-4BB8-9B83-4775A334C9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67A7-776D-46C0-A4F5-3B991472A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915D-98B1-4D1B-9475-8B3AA0798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257C0-F2F6-4D2E-A84B-471CE97FD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96CFA-9220-4FB7-8BC5-38432898B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CE932-880B-4DDF-80D7-8E257E71B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145AD-B4AA-4DE4-A47C-9E4E21887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A4B23-C88A-46A8-9DA8-8B7C0CB12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8164-4252-4204-B196-3894FE96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B4080-7758-4009-BA45-CB4651A03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168-838B-4953-B44F-2DA12EF31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C9764-B06A-41FA-A4C3-C80642690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CEFBD-E7F3-4E2F-BE1E-CA4ACC91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F4043-805D-4397-B0F2-5CC40543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5A9E6-BF96-40E9-B05B-E8D574D62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4C820-A3BF-4422-BC2F-8EF060E70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2C42-359C-4A29-B22A-16A7F02EB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A72F-8781-4E74-B652-A52DC67E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02051-FEF6-4250-A570-9E9FF9FC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1B38E-CA40-47DA-9F4C-AE8F9D92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CA4D-4ACB-4B62-8AB4-79FBF4CA0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AE4-CF71-4025-83D3-3638123DA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D843-F97B-4F44-B35B-CC4548B7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F5C3-0A39-46C5-A6B1-941DA846926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aint" descr=""/>
          <p:cNvPicPr/>
          <p:nvPr/>
        </p:nvPicPr>
        <p:blipFill>
          <a:blip r:embed="rId2"/>
          <a:stretch/>
        </p:blipFill>
        <p:spPr>
          <a:xfrm>
            <a:off x="914400" y="1314360"/>
            <a:ext cx="8229600" cy="384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1320-2432-409A-8D9F-3FD5DA32852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paint" descr=""/>
          <p:cNvPicPr/>
          <p:nvPr/>
        </p:nvPicPr>
        <p:blipFill>
          <a:blip r:embed="rId2"/>
          <a:stretch/>
        </p:blipFill>
        <p:spPr>
          <a:xfrm>
            <a:off x="914400" y="1828800"/>
            <a:ext cx="8229600" cy="38412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OPER PROTOCOL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33720" y="388584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PILLARS OF LEADERSHIP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003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ALUTATION OF LETTER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ON. JOHN DO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MASTER OF MASONS IN OH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3 ASHLAR D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EDETHA, OHIO 45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WORSHIPFUL GRAND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AR GRAND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VIT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SENT WELL IN ADV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A MAP OR DIR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MERGENCY PHONE NUMB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CLUDE ALL PERTINENT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CHEDULED EVENT, PLACE, TIME, DRESS, DINNER OR REFRESHMENTS, ETC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BANQUE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IDING OFFICER NEAR CE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ANKING GUEST NEXT TO HI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MAINING DISTINGUISHED GUESTS ALTERNATE FROM SIDE TO SIDE BY RAN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DIES ARE NEVER ON THE END OF THE TA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DEPUTY GRAND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AD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LODGE OFFIC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TRODUCTIONS</a:t>
            </a: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FFICERS MANU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GES 22-2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UP 1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T DISTRICT DEPUTIES GRAND MAS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OINTIVE OFFICERS-GRAND LODGE OF OH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OINTIVE OFFICERS-OTHER GRAND JURISD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ECTIVE AND APPOINTIVE OFFICERS OF RECOGNIZED MASONIC GRAND BO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ITLES - OHIO OFFICE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Y ONLY WHEN THE OFFICE IS HELD, EXCE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SHIPFUL” FOR PAST MA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IGHT WORSHIPFUL” FOR PAST DISTRICT DEPUTIES AND ASSOCIATE GRAND CHAPLAI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ST WORSHIPFUL” FOR PAST GRAND MA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UP 2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T GRAND MAST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TREASUR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SECRETA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JUNIOR GRAND WA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NIOR GRAND WARDE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RRESPONDING VISITING OFFICERS OF OTHER JURISD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DEPUTIES NOT IN THEIR ASSIGNED DISTRI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UP 3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UTY GRAND MASTERS OF OTHER JURISD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MASTERS OF OTHER JURISDI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GROUP 4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TRICT DEPUTIES IN THEIR ASSIGNED DISTRIC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PUTY GRAND MASTER OF OH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GRAND MASTER OF OHI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RIVATE GRAND HONOR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GIVEN BY MASTER MAS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GIVEN IN A MASTER MASON LOD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RRESPONDENC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SONIC TITLE IS NEVER USED ON CORRESPONDE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R. JOHN DO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23 ASHLAR D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spcBef>
                <a:spcPts val="799"/>
              </a:spcBef>
              <a:buClr>
                <a:srgbClr val="ffcc00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REDETHA, OHIO 45999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21T02:50:45Z</dcterms:created>
  <dc:creator>Michael A. Himes</dc:creator>
  <dc:description/>
  <dc:language>en-US</dc:language>
  <cp:lastModifiedBy>Michael A. Himes</cp:lastModifiedBy>
  <cp:lastPrinted>2002-06-21T21:40:11Z</cp:lastPrinted>
  <dcterms:modified xsi:type="dcterms:W3CDTF">2003-07-01T02:58:24Z</dcterms:modified>
  <cp:revision>4</cp:revision>
  <dc:subject/>
  <dc:title>PROPER PROTOCOL  </dc:title>
</cp:coreProperties>
</file>